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860-5922-4D19-AB88-2510741C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6E5-7F70-40D5-A19A-8AB94968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720-DB33-4C87-A432-1EFE7ADA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54C-9AEA-4A24-AACE-621E34FA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D50-6067-4B28-BA2F-72D470F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0C1-D115-4AC0-86BB-2A0DF29B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283-9A92-4300-B751-3034E4F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583-8FE3-4AB8-AC2F-A7649D8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7FC-320E-4164-B7DF-A1C62550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C2D-E64D-4275-B8DB-4322F7E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E8C-3CA4-4A33-B865-0E1CECE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554-0332-494A-A39F-E91A6CB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018-47AF-42AE-A8FE-FF6E4B4A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9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call the use –AR verbs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njugate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chang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–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ate Articl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, la, los,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dcterms:modified xsi:type="dcterms:W3CDTF">2015-09-29T21:33:06Z</dcterms:modified>
  <cp:revision>26</cp:revision>
  <dc:subject/>
  <dc:title>Me llamo ___________ Clase 6 NH/IL La fecha es el 10 de enero del 2011</dc:title>
</cp:coreProperties>
</file>